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080-F635-4F99-87C5-301B513E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D23-F8FA-4759-814C-73C934FD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0BF1-269D-4419-AE82-4A958265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395-D138-481D-B175-C051E799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95D-6477-4E25-A027-D1A04E0A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32E-CEEE-4D3A-9484-C4698E20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F63-2846-4CF2-A899-F09C0841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88A-4FC0-40F7-986C-E504E4AD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5E9-A08D-4CA1-A406-D340D5CC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2E72-C3DF-4000-9449-7480C21B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064-843D-400E-A4BE-7CBBD7F1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481-3ADD-4F35-9F44-4C4E3E97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7826-E22C-4C53-BA76-819856259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freeplaymusic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cad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05720" y="495288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609480"/>
            <a:ext cx="54864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atorad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638680" y="4952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5257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my Angel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/7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ade"/>
          <p:cNvPicPr/>
          <p:nvPr/>
        </p:nvPicPr>
        <p:blipFill>
          <a:blip r:embed="rId1"/>
          <a:stretch/>
        </p:blipFill>
        <p:spPr>
          <a:xfrm>
            <a:off x="1752480" y="1981080"/>
            <a:ext cx="4953240" cy="208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5181480"/>
            <a:ext cx="655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torad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,10,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a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762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ove Gatorade because it tastes really good. I guarantee that everybody would love it! So if you have never had Gatorade then go ahead and try som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67, Gatorade gained instant notoriety and gained media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orade became a house hold name when the tradition of pouring the Gatorade jug over the head of the winning team’s co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athletes drink Gatorade now a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s much as 15 different flavors of Gato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and of Gatorade also has other products such as chewing gum and energy b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57400" y="228600"/>
            <a:ext cx="4572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vention: Gatorad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Cade was born in Florida in 19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Cade was trained at the University of Texas medical school in Da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also studies about down syndrome, autism and m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Cade also discovered a similar product called Go Energy Recovery which helps athle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73, Robert and the University of Florida were able to strike a deal that allows the university to sell Gatorade every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47920" y="380880"/>
            <a:ext cx="5790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ventor: Robert Cad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25Z</dcterms:created>
  <dc:creator>install</dc:creator>
  <dc:description/>
  <dc:language>en-US</dc:language>
  <cp:lastModifiedBy>install</cp:lastModifiedBy>
  <dcterms:modified xsi:type="dcterms:W3CDTF">2010-05-12T17:35:39Z</dcterms:modified>
  <cp:revision>13</cp:revision>
  <dc:subject/>
  <dc:title>Slide 1</dc:title>
</cp:coreProperties>
</file>